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8571-1CC6-4DF3-8DDB-636A6F51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B3F-8C4B-4156-99CB-B91E6B8E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D17-E173-4CEC-97CE-AA901FBF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3E8-6131-4EF3-9622-DE95FBB7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570F-56FA-4524-A1E6-DE25F17E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76CD-F08D-458B-BABB-A705BB32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88C3-1A00-4818-820A-00F5D6C1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018A-BCFF-40F4-93D4-F9132D9F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32C8-BEF9-4472-A0C8-372A21F0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0F93-2AC1-4C0A-9CEC-3C7EF6F7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A24E-ADED-42AE-8671-4CB725D5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73F-09C5-4C59-A400-A31D5652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A62B-7B20-48BD-BB0D-543EB0C2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7031-B183-4BBF-BBD7-9F4F47FB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D165-1326-4B37-9784-B7483FE1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D939-7D7A-4883-9CA8-1FFE6CF8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6C7A-669A-4479-9959-2B5D7E9C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293-AB8E-494F-B510-E184ED4D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602-F726-489A-B681-AC06675A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53B4-266C-4C27-AC0C-7703D454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4DE-96FF-409E-9F2B-46188566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FC0-C58C-4630-95A4-18A50F37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C35-0526-4933-B0D4-D2FD8C4D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9878-B1CF-41F3-BAE2-BE89BB53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DDD9-7317-4E2E-A7F8-569DDF1B0EE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94D9-05CD-42EE-BC18-1F115BCE58E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-615960" y="36360"/>
            <a:ext cx="5883120" cy="1878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2" descr="http://upload.wikimedia.org/wikipedia/commons/d/d5/Raffaello_Sanzio_-_Pietro_Bembo.jpg"/>
          <p:cNvPicPr/>
          <p:nvPr/>
        </p:nvPicPr>
        <p:blipFill>
          <a:blip r:embed="rId2"/>
          <a:stretch/>
        </p:blipFill>
        <p:spPr>
          <a:xfrm>
            <a:off x="435132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te of birth: April 6, 1483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te of death: April 6, 152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 was the son of Giovanni Sanzio, a painter in the ducal city of Urbin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aphael lost him at the age of eleve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 didn’t become famous until after his death when people started to study him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http://www.rcsouthwark.co.uk/media/transfiguration_raphael_det.jpg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Title 1" descr=""/>
          <p:cNvPicPr/>
          <p:nvPr/>
        </p:nvPicPr>
        <p:blipFill>
          <a:blip r:embed="rId2"/>
          <a:stretch/>
        </p:blipFill>
        <p:spPr>
          <a:xfrm>
            <a:off x="-268200" y="-648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-360" y="990360"/>
            <a:ext cx="3809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s is the Transfiguration of Chris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was the final work of Raphael's life, and is believed to have been unfinished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http://www.robinurton.com/history/Renaissance/RaphSchool2.jpg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Title 1" descr=""/>
          <p:cNvPicPr/>
          <p:nvPr/>
        </p:nvPicPr>
        <p:blipFill>
          <a:blip r:embed="rId2"/>
          <a:stretch/>
        </p:blipFill>
        <p:spPr>
          <a:xfrm>
            <a:off x="115920" y="-648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-360" y="838080"/>
            <a:ext cx="25909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1508 Raphael was called by Pope Julius II was told to execute people in four small rooms of the Vatican Palac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80880" y="10666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aphael was the genius of Renaissance painter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aphael influenced painters up to the 1900'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Made people think of personality when looking at his painting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ut realistic emotions in his painting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hanged the way people look at ar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aphael painted lif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aphael changed the art worl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14:49:47Z</dcterms:created>
  <dc:creator>admin</dc:creator>
  <dc:description/>
  <dc:language>en-US</dc:language>
  <cp:lastModifiedBy>admin</cp:lastModifiedBy>
  <dcterms:modified xsi:type="dcterms:W3CDTF">2011-04-18T16:04:42Z</dcterms:modified>
  <cp:revision>8</cp:revision>
  <dc:subject/>
  <dc:title>Slide 1</dc:title>
</cp:coreProperties>
</file>